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56.wmf" ContentType="image/x-wmf"/>
  <Override PartName="/ppt/media/image55.wmf" ContentType="image/x-wmf"/>
  <Override PartName="/ppt/media/image49.png" ContentType="image/png"/>
  <Override PartName="/ppt/media/image48.png" ContentType="image/png"/>
  <Override PartName="/ppt/media/image45.jpeg" ContentType="image/jpeg"/>
  <Override PartName="/ppt/media/image46.wmf" ContentType="image/x-wmf"/>
  <Override PartName="/ppt/media/image44.wmf" ContentType="image/x-wmf"/>
  <Override PartName="/ppt/media/image43.wmf" ContentType="image/x-wmf"/>
  <Override PartName="/ppt/media/image9.png" ContentType="image/png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3.jpeg" ContentType="image/jpeg"/>
  <Override PartName="/ppt/media/image22.wmf" ContentType="image/x-wmf"/>
  <Override PartName="/ppt/media/image59.wmf" ContentType="image/x-wmf"/>
  <Override PartName="/ppt/media/image23.png" ContentType="image/png"/>
  <Override PartName="/ppt/media/image35.wmf" ContentType="image/x-wmf"/>
  <Override PartName="/ppt/media/image24.jpeg" ContentType="image/jpeg"/>
  <Override PartName="/ppt/media/image28.wmf" ContentType="image/x-wmf"/>
  <Override PartName="/ppt/media/image64.gif" ContentType="image/gif"/>
  <Override PartName="/ppt/media/image67.png" ContentType="image/png"/>
  <Override PartName="/ppt/media/image65.wmf" ContentType="image/x-wmf"/>
  <Override PartName="/ppt/media/image1.png" ContentType="image/png"/>
  <Override PartName="/ppt/media/image31.png" ContentType="image/png"/>
  <Override PartName="/ppt/media/image29.wmf" ContentType="image/x-wmf"/>
  <Override PartName="/ppt/media/image14.wmf" ContentType="image/x-wmf"/>
  <Override PartName="/ppt/media/image66.png" ContentType="image/png"/>
  <Override PartName="/ppt/media/image27.wmf" ContentType="image/x-wmf"/>
  <Override PartName="/ppt/media/image2.png" ContentType="image/png"/>
  <Override PartName="/ppt/media/image26.wmf" ContentType="image/x-wmf"/>
  <Override PartName="/ppt/media/image69.png" ContentType="image/png"/>
  <Override PartName="/ppt/media/image32.png" ContentType="image/png"/>
  <Override PartName="/ppt/media/image62.png" ContentType="image/png"/>
  <Override PartName="/ppt/media/image53.png" ContentType="image/png"/>
  <Override PartName="/ppt/media/image10.wmf" ContentType="image/x-wmf"/>
  <Override PartName="/ppt/media/image15.wmf" ContentType="image/x-wmf"/>
  <Override PartName="/ppt/media/image3.png" ContentType="image/png"/>
  <Override PartName="/ppt/media/image33.png" ContentType="image/png"/>
  <Override PartName="/ppt/media/image54.png" ContentType="image/png"/>
  <Override PartName="/ppt/media/image11.wmf" ContentType="image/x-wmf"/>
  <Override PartName="/ppt/media/image50.png" ContentType="image/png"/>
  <Override PartName="/ppt/media/image8.wmf" ContentType="image/x-wmf"/>
  <Override PartName="/ppt/media/image5.wmf" ContentType="image/x-wmf"/>
  <Override PartName="/ppt/media/image17.wmf" ContentType="image/x-wmf"/>
  <Override PartName="/ppt/media/image13.wmf" ContentType="image/x-wmf"/>
  <Override PartName="/ppt/media/image52.png" ContentType="image/png"/>
  <Override PartName="/ppt/media/image4.png" ContentType="image/png"/>
  <Override PartName="/ppt/media/image12.wmf" ContentType="image/x-wmf"/>
  <Override PartName="/ppt/media/image51.png" ContentType="image/png"/>
  <Override PartName="/ppt/media/image30.wmf" ContentType="image/x-wmf"/>
  <Override PartName="/ppt/media/image34.wmf" ContentType="image/x-wmf"/>
  <Override PartName="/ppt/media/image68.jpeg" ContentType="image/jpeg"/>
  <Override PartName="/ppt/media/image36.wmf" ContentType="image/x-wmf"/>
  <Override PartName="/ppt/media/image47.jpeg" ContentType="image/jpeg"/>
  <Override PartName="/ppt/media/image25.wmf" ContentType="image/x-wmf"/>
  <Override PartName="/ppt/media/image37.wmf" ContentType="image/x-wmf"/>
  <Override PartName="/ppt/media/image38.jpeg" ContentType="image/jpeg"/>
  <Override PartName="/ppt/media/image39.wmf" ContentType="image/x-wmf"/>
  <Override PartName="/ppt/media/image7.png" ContentType="image/png"/>
  <Override PartName="/ppt/media/image41.wmf" ContentType="image/x-wmf"/>
  <Override PartName="/ppt/media/image42.jpeg" ContentType="image/jpeg"/>
  <Override PartName="/ppt/media/image40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F91-3B2D-4922-BC39-15AE22D3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D212-B8F6-4B6F-A6BF-0CCF7080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6BB-86E8-49DB-9F45-E3D314F8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93A-68A1-46D6-A75D-B6511F03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120-905F-4E01-8390-4C34F1FA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C63-49C3-4532-A8D8-BB7BB76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7A8-0834-40DA-BAD3-290460E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B71-1D78-4FA4-9089-FEAC289A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E97-F91B-4151-9CBB-288D2683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293-6E6C-4643-A810-A799B86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879-ABB4-454A-9C1D-377CF20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996-9D37-4CD0-BFC0-1C0BD533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A652-F064-4C58-B728-6484C252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window.status=sClickToViewProp%3Breturn%20true%3B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jpe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echnical"/>
              </a:rPr>
              <a:t>Shelter Operations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Technical"/>
              </a:rPr>
              <a:t>ARC 3068-11</a:t>
            </a:r>
            <a:r>
              <a:rPr b="0" lang="en-US" sz="6000" spc="-1" strike="noStrike" u="sng">
                <a:solidFill>
                  <a:srgbClr val="ccccff"/>
                </a:solidFill>
                <a:uFillTx/>
                <a:latin typeface="Technical"/>
                <a:hlinkClick r:id="rId1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3581280" y="0"/>
          <a:ext cx="2133720" cy="209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0"/>
                    <a:ext cx="213372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chnical"/>
              </a:rPr>
              <a:t>American Red Cross in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echnical"/>
              </a:rPr>
              <a:t>National Capital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908760" y="2179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8004240" y="581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6" descr="Filename: j0215306.wmf&#13;Keywords: animals, cartoons, ice skating ...&#13;File Size: 21 KB"/>
          <p:cNvPicPr/>
          <p:nvPr/>
        </p:nvPicPr>
        <p:blipFill>
          <a:blip r:embed="rId4"/>
          <a:stretch/>
        </p:blipFill>
        <p:spPr>
          <a:xfrm>
            <a:off x="228600" y="228600"/>
            <a:ext cx="1965240" cy="1965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Filename: j0237250.wmf&#13;Keywords: architecture, arctic buildings, buildings ...&#13;File Size: 12 KB"/>
          <p:cNvPicPr/>
          <p:nvPr/>
        </p:nvPicPr>
        <p:blipFill>
          <a:blip r:embed="rId5"/>
          <a:stretch/>
        </p:blipFill>
        <p:spPr>
          <a:xfrm>
            <a:off x="6781680" y="22860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7"/>
          <p:cNvGraphicFramePr/>
          <p:nvPr/>
        </p:nvGraphicFramePr>
        <p:xfrm>
          <a:off x="4667400" y="0"/>
          <a:ext cx="1647720" cy="10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7400" y="0"/>
                    <a:ext cx="1647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8"/>
          <p:cNvGraphicFramePr/>
          <p:nvPr/>
        </p:nvGraphicFramePr>
        <p:xfrm>
          <a:off x="7015320" y="1006560"/>
          <a:ext cx="1720800" cy="17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006560"/>
                    <a:ext cx="172080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Object 9" descr=""/>
          <p:cNvPicPr/>
          <p:nvPr/>
        </p:nvPicPr>
        <p:blipFill>
          <a:blip r:embed="rId5"/>
          <a:stretch/>
        </p:blipFill>
        <p:spPr>
          <a:xfrm>
            <a:off x="7329600" y="3146400"/>
            <a:ext cx="1585800" cy="176544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0" descr=""/>
          <p:cNvPicPr/>
          <p:nvPr/>
        </p:nvPicPr>
        <p:blipFill>
          <a:blip r:embed="rId6"/>
          <a:stretch/>
        </p:blipFill>
        <p:spPr>
          <a:xfrm>
            <a:off x="5618160" y="4970520"/>
            <a:ext cx="1584360" cy="1887480"/>
          </a:xfrm>
          <a:prstGeom prst="rect">
            <a:avLst/>
          </a:prstGeom>
          <a:ln w="0">
            <a:noFill/>
          </a:ln>
        </p:spPr>
      </p:pic>
      <p:pic>
        <p:nvPicPr>
          <p:cNvPr id="87" name="Object 11" descr=""/>
          <p:cNvPicPr/>
          <p:nvPr/>
        </p:nvPicPr>
        <p:blipFill>
          <a:blip r:embed="rId7"/>
          <a:stretch/>
        </p:blipFill>
        <p:spPr>
          <a:xfrm>
            <a:off x="1004760" y="5095800"/>
            <a:ext cx="1955880" cy="15033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12" descr=""/>
          <p:cNvPicPr/>
          <p:nvPr/>
        </p:nvPicPr>
        <p:blipFill>
          <a:blip r:embed="rId8"/>
          <a:stretch/>
        </p:blipFill>
        <p:spPr>
          <a:xfrm>
            <a:off x="146160" y="3019320"/>
            <a:ext cx="1636560" cy="163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"/>
          <p:cNvPicPr/>
          <p:nvPr/>
        </p:nvPicPr>
        <p:blipFill>
          <a:blip r:embed="rId9"/>
          <a:stretch/>
        </p:blipFill>
        <p:spPr>
          <a:xfrm>
            <a:off x="0" y="880920"/>
            <a:ext cx="3051000" cy="1319400"/>
          </a:xfrm>
          <a:prstGeom prst="rect">
            <a:avLst/>
          </a:prstGeom>
          <a:ln w="0">
            <a:noFill/>
          </a:ln>
        </p:spPr>
      </p:pic>
      <p:sp>
        <p:nvSpPr>
          <p:cNvPr id="90" name="Line 14"/>
          <p:cNvSpPr/>
          <p:nvPr/>
        </p:nvSpPr>
        <p:spPr>
          <a:xfrm>
            <a:off x="5735520" y="1006560"/>
            <a:ext cx="731880" cy="441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6467040" y="4341960"/>
            <a:ext cx="854280" cy="691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6954840" y="2579760"/>
            <a:ext cx="0" cy="942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3416400" y="6291360"/>
            <a:ext cx="1952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H="1" flipV="1">
            <a:off x="1463760" y="4403520"/>
            <a:ext cx="1465200" cy="7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976320" y="2201400"/>
            <a:ext cx="0" cy="113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 flipV="1">
            <a:off x="1220760" y="566640"/>
            <a:ext cx="2562120" cy="43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2"/>
          <p:cNvSpPr txBox="1"/>
          <p:nvPr/>
        </p:nvSpPr>
        <p:spPr>
          <a:xfrm>
            <a:off x="2438280" y="2133720"/>
            <a:ext cx="403884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The Shelter Cyc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7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609480" y="5029200"/>
            <a:ext cx="3648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hazards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457200" y="2133720"/>
            <a:ext cx="411480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o needs help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4191120" y="2819520"/>
            <a:ext cx="43336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kind of help?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1676520" y="228600"/>
            <a:ext cx="5486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ning &amp; Preparedness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3" name="Picture 18" descr=""/>
          <p:cNvPicPr/>
          <p:nvPr/>
        </p:nvPicPr>
        <p:blipFill>
          <a:blip r:embed="rId2"/>
          <a:stretch/>
        </p:blipFill>
        <p:spPr>
          <a:xfrm>
            <a:off x="8426520" y="0"/>
            <a:ext cx="71748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C:\Documents and Settings\mshepley\Application Data\Microsoft\Media Catalog\Downloaded Clips\cla4\j0411652.wmf"/>
          <p:cNvPicPr/>
          <p:nvPr/>
        </p:nvPicPr>
        <p:blipFill>
          <a:blip r:embed="rId3"/>
          <a:stretch/>
        </p:blipFill>
        <p:spPr>
          <a:xfrm>
            <a:off x="0" y="0"/>
            <a:ext cx="90972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4"/>
          <a:stretch/>
        </p:blipFill>
        <p:spPr>
          <a:xfrm>
            <a:off x="8015400" y="5638680"/>
            <a:ext cx="1128600" cy="121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3424320"/>
            <a:ext cx="3733920" cy="31766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2"/>
          <p:cNvSpPr txBox="1"/>
          <p:nvPr/>
        </p:nvSpPr>
        <p:spPr>
          <a:xfrm>
            <a:off x="0" y="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Brainstorm...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657600" y="310824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 list of people who might need to stay in a shel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8"/>
          <p:cNvSpPr txBox="1"/>
          <p:nvPr/>
        </p:nvSpPr>
        <p:spPr>
          <a:xfrm>
            <a:off x="2286000" y="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How do we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140600" y="0"/>
            <a:ext cx="2003400" cy="203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9"/>
          <p:cNvSpPr txBox="1"/>
          <p:nvPr/>
        </p:nvSpPr>
        <p:spPr>
          <a:xfrm>
            <a:off x="3124080" y="1295280"/>
            <a:ext cx="4876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prepare?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0" y="273996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he Red Cross makes agreements with shelter sites, vendors, and other agencies to help us run the shelters and manage other tasks during a disaster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his is called the Disaster Pla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roobie"/>
              </a:rPr>
              <a:t>What hazards exist HERE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457200" y="19810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urricane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304920" y="35812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ire</a:t>
            </a:r>
            <a:endParaRPr b="0" lang="en-US" sz="60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6019920" y="27432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irplane Crash</a:t>
            </a:r>
            <a:endParaRPr b="0" lang="en-US" sz="6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2819520" y="1752480"/>
            <a:ext cx="2819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dustrial Acciden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533520" y="52578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lood</a:t>
            </a:r>
            <a:endParaRPr b="0" lang="en-US" sz="6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3200400" y="487692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cc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arthquake</a:t>
            </a:r>
            <a:endParaRPr b="0" lang="en-US" sz="60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cc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2971800" y="335268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now Stor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10"/>
          <p:cNvSpPr txBox="1"/>
          <p:nvPr/>
        </p:nvSpPr>
        <p:spPr>
          <a:xfrm>
            <a:off x="6019920" y="144792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ornado</a:t>
            </a:r>
            <a:endParaRPr b="0" lang="en-US" sz="6000" spc="1" strike="noStrike">
              <a:ln w="936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WordArt 11"/>
          <p:cNvSpPr txBox="1"/>
          <p:nvPr/>
        </p:nvSpPr>
        <p:spPr>
          <a:xfrm>
            <a:off x="5943600" y="4114800"/>
            <a:ext cx="187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3333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plosions</a:t>
            </a:r>
            <a:endParaRPr b="0" lang="en-US" sz="6000" spc="1" strike="noStrike">
              <a:ln w="9360">
                <a:solidFill>
                  <a:srgbClr val="333333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1676520" y="228600"/>
            <a:ext cx="54864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Disaster Happens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rcRect l="0" t="0" r="0" b="14996"/>
          <a:stretch/>
        </p:blipFill>
        <p:spPr>
          <a:xfrm>
            <a:off x="6934320" y="5130720"/>
            <a:ext cx="22096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1749600" cy="1749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1676520" cy="1670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4"/>
          <a:stretch/>
        </p:blipFill>
        <p:spPr>
          <a:xfrm>
            <a:off x="762120" y="1905120"/>
            <a:ext cx="1592280" cy="158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5"/>
          <a:stretch/>
        </p:blipFill>
        <p:spPr>
          <a:xfrm>
            <a:off x="7238880" y="3200400"/>
            <a:ext cx="1600200" cy="1069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"/>
          <p:cNvPicPr/>
          <p:nvPr/>
        </p:nvPicPr>
        <p:blipFill>
          <a:blip r:embed="rId6"/>
          <a:stretch/>
        </p:blipFill>
        <p:spPr>
          <a:xfrm>
            <a:off x="838080" y="4038480"/>
            <a:ext cx="1384560" cy="155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7"/>
          <a:stretch/>
        </p:blipFill>
        <p:spPr>
          <a:xfrm>
            <a:off x="5562720" y="4191120"/>
            <a:ext cx="1363680" cy="117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457200" y="22860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Narrow"/>
              </a:rPr>
              <a:t>Start the PLAN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Narrow"/>
              <a:ea typeface="Arial Narrow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2743200" y="3557520"/>
            <a:ext cx="3124080" cy="330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 rot="20573400">
            <a:off x="343080" y="866520"/>
            <a:ext cx="6705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looGun"/>
              </a:rPr>
              <a:t>Time for a BREAK!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looGun"/>
              <a:ea typeface="GlooGun"/>
            </a:endParaRPr>
          </a:p>
        </p:txBody>
      </p:sp>
      <p:pic>
        <p:nvPicPr>
          <p:cNvPr id="135" name="Picture 6" descr="MPj04014080000[1]"/>
          <p:cNvPicPr/>
          <p:nvPr/>
        </p:nvPicPr>
        <p:blipFill>
          <a:blip r:embed="rId1"/>
          <a:stretch/>
        </p:blipFill>
        <p:spPr>
          <a:xfrm>
            <a:off x="6022800" y="3736800"/>
            <a:ext cx="3121200" cy="3121200"/>
          </a:xfrm>
          <a:prstGeom prst="rect">
            <a:avLst/>
          </a:prstGeom>
          <a:ln w="0">
            <a:noFill/>
          </a:ln>
        </p:spPr>
      </p:pic>
      <p:sp>
        <p:nvSpPr>
          <p:cNvPr id="136" name="WordArt 7"/>
          <p:cNvSpPr txBox="1"/>
          <p:nvPr/>
        </p:nvSpPr>
        <p:spPr>
          <a:xfrm rot="20573400">
            <a:off x="1752480" y="4114800"/>
            <a:ext cx="3926160" cy="21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MT"/>
              </a:rPr>
              <a:t>10 minutes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MT"/>
              <a:ea typeface="Gill Sans MT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2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8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457200" y="228600"/>
            <a:ext cx="8305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Arial Narrow"/>
              </a:rPr>
              <a:t>The Shelter Tea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3860640" cy="227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Course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480" y="99036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cribe shelter opening, operating and closing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lain ways to demonstrate quality serv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e available human resources as a shelter operations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e the physical facility and material resources to meet the needs of people in the she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dentify resources available to assist shelter work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Filename: j0295860.wmf&#13;Keywords: cooperation, encouragement, goals ...&#13;File Size: 51 KB"/>
          <p:cNvPicPr/>
          <p:nvPr/>
        </p:nvPicPr>
        <p:blipFill>
          <a:blip r:embed="rId1"/>
          <a:stretch/>
        </p:blipFill>
        <p:spPr>
          <a:xfrm>
            <a:off x="228600" y="2362320"/>
            <a:ext cx="2666880" cy="4190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0" y="2590920"/>
            <a:ext cx="318780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2"/>
          <p:cNvSpPr txBox="1"/>
          <p:nvPr/>
        </p:nvSpPr>
        <p:spPr>
          <a:xfrm>
            <a:off x="685800" y="228600"/>
            <a:ext cx="8001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Narrow"/>
              </a:rPr>
              <a:t>Each person in the shelter has a job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2133720" y="1676520"/>
            <a:ext cx="64767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Narrow"/>
              </a:rPr>
              <a:t>What are the job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3124080" y="3048120"/>
            <a:ext cx="6019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Narrow"/>
              </a:rPr>
              <a:t>What are the tasks of the job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2362320" y="5029200"/>
            <a:ext cx="6781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Arial Narrow"/>
              </a:rPr>
              <a:t>Job checklists can help you remember your dutie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0" y="3352680"/>
            <a:ext cx="3962520" cy="28274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0" y="228600"/>
            <a:ext cx="9144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Arial Narrow"/>
              </a:rPr>
              <a:t>Pre-Occupancy Inspection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Arial Narrow"/>
              <a:ea typeface="Arial Narrow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228600" y="1981080"/>
            <a:ext cx="8458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latin typeface="Arial Narrow"/>
              </a:rPr>
              <a:t>Which Red Cross value requires us to do this?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latin typeface="Arial Narrow"/>
              <a:ea typeface="Arial Narrow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2971800" y="5410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00ffff"/>
                </a:solidFill>
                <a:latin typeface="Arial Narrow"/>
              </a:rPr>
              <a:t>What does it tell us?</a:t>
            </a:r>
            <a:endParaRPr b="0" lang="en-US" sz="6000" spc="1" strike="noStrike">
              <a:ln w="12600">
                <a:solidFill>
                  <a:srgbClr val="660066"/>
                </a:solidFill>
                <a:miter/>
              </a:ln>
              <a:solidFill>
                <a:srgbClr val="00ffff"/>
              </a:solidFill>
              <a:latin typeface="Arial Narrow"/>
              <a:ea typeface="Arial Narrow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5"/>
          <p:cNvSpPr txBox="1"/>
          <p:nvPr/>
        </p:nvSpPr>
        <p:spPr>
          <a:xfrm>
            <a:off x="1066680" y="3049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lter Staffing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048120" cy="27939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380880" y="1752480"/>
            <a:ext cx="2810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24 hours a day!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2133720" y="2438280"/>
            <a:ext cx="2809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7 days a week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04920" y="3505320"/>
            <a:ext cx="4952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enever we are needed!</a:t>
            </a:r>
            <a:endParaRPr b="0" lang="en-US" sz="60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28600" y="5257800"/>
            <a:ext cx="85345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 Red Cross value requires us to staff this way?</a:t>
            </a:r>
            <a:endParaRPr b="0" lang="en-US" sz="6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27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7"/>
          <p:cNvSpPr txBox="1"/>
          <p:nvPr/>
        </p:nvSpPr>
        <p:spPr>
          <a:xfrm>
            <a:off x="380880" y="45720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9966ff"/>
                    </a:gs>
                  </a:gsLst>
                  <a:lin ang="189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helter Registration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9966ff"/>
                  </a:gs>
                </a:gsLst>
                <a:lin ang="189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80880" y="2438280"/>
            <a:ext cx="838224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f possible, do not open the shelter without regis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t should be near the front ent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gister clients as they arr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ave enough room for the clients to form a line without waiting outs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3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0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990720" y="1600200"/>
            <a:ext cx="35812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The Three </a:t>
            </a:r>
            <a:r>
              <a:rPr b="1" lang="en-US" sz="6000" spc="-1" strike="noStrike">
                <a:solidFill>
                  <a:srgbClr val="0033cc"/>
                </a:solidFill>
                <a:latin typeface="Arial Narrow"/>
              </a:rPr>
              <a:t>R’s</a:t>
            </a: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 of Shelte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343400" y="1981080"/>
            <a:ext cx="28954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espe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ul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 Narrow"/>
              </a:rPr>
              <a:t>outin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0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134280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1409760" cy="990720"/>
          </a:xfrm>
          <a:prstGeom prst="rect">
            <a:avLst/>
          </a:prstGeom>
          <a:ln w="0">
            <a:noFill/>
          </a:ln>
        </p:spPr>
      </p:pic>
      <p:sp>
        <p:nvSpPr>
          <p:cNvPr id="168" name="WordArt 2"/>
          <p:cNvSpPr txBox="1"/>
          <p:nvPr/>
        </p:nvSpPr>
        <p:spPr>
          <a:xfrm>
            <a:off x="1143000" y="685800"/>
            <a:ext cx="6781680" cy="144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Arial Black"/>
              </a:rPr>
              <a:t>its routin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Arial Black"/>
              <a:ea typeface="Arial Black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rcRect l="12094" t="0" r="16349" b="0"/>
          <a:stretch/>
        </p:blipFill>
        <p:spPr>
          <a:xfrm>
            <a:off x="2523960" y="1905120"/>
            <a:ext cx="393732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4"/>
          <a:stretch/>
        </p:blipFill>
        <p:spPr>
          <a:xfrm>
            <a:off x="1219320" y="3276720"/>
            <a:ext cx="1361880" cy="1000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5"/>
          <a:stretch/>
        </p:blipFill>
        <p:spPr>
          <a:xfrm>
            <a:off x="1752480" y="5105520"/>
            <a:ext cx="1352520" cy="9046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8"/>
          <p:cNvGrpSpPr/>
          <p:nvPr/>
        </p:nvGrpSpPr>
        <p:grpSpPr>
          <a:xfrm>
            <a:off x="1905120" y="1752480"/>
            <a:ext cx="1190160" cy="838440"/>
            <a:chOff x="1905120" y="1752480"/>
            <a:chExt cx="1190160" cy="838440"/>
          </a:xfrm>
        </p:grpSpPr>
        <p:grpSp>
          <p:nvGrpSpPr>
            <p:cNvPr id="173" name="Group 16"/>
            <p:cNvGrpSpPr/>
            <p:nvPr/>
          </p:nvGrpSpPr>
          <p:grpSpPr>
            <a:xfrm>
              <a:off x="1905120" y="1752480"/>
              <a:ext cx="1190160" cy="838440"/>
              <a:chOff x="1905120" y="1752480"/>
              <a:chExt cx="1190160" cy="838440"/>
            </a:xfrm>
          </p:grpSpPr>
          <p:pic>
            <p:nvPicPr>
              <p:cNvPr id="174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68840" y="1752480"/>
                <a:ext cx="112644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Oval 15"/>
              <p:cNvSpPr/>
              <p:nvPr/>
            </p:nvSpPr>
            <p:spPr>
              <a:xfrm>
                <a:off x="1905120" y="1752480"/>
                <a:ext cx="1150200" cy="838440"/>
              </a:xfrm>
              <a:prstGeom prst="ellipse">
                <a:avLst/>
              </a:prstGeom>
              <a:noFill/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Line 17"/>
            <p:cNvSpPr/>
            <p:nvPr/>
          </p:nvSpPr>
          <p:spPr>
            <a:xfrm>
              <a:off x="2160720" y="1816920"/>
              <a:ext cx="574920" cy="70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Picture 19" descr=""/>
          <p:cNvPicPr/>
          <p:nvPr/>
        </p:nvPicPr>
        <p:blipFill>
          <a:blip r:embed="rId7"/>
          <a:stretch/>
        </p:blipFill>
        <p:spPr>
          <a:xfrm>
            <a:off x="5867280" y="5257800"/>
            <a:ext cx="141948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 rot="5400000">
            <a:off x="-2743200" y="274320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UL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1828800" y="380880"/>
            <a:ext cx="2104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f-Limit Area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828800" y="320040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gn in/sign ou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1868400" cy="141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3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1606320" cy="1258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"/>
          <p:cNvPicPr/>
          <p:nvPr/>
        </p:nvPicPr>
        <p:blipFill>
          <a:blip r:embed="rId3"/>
          <a:stretch/>
        </p:blipFill>
        <p:spPr>
          <a:xfrm>
            <a:off x="3124080" y="1828800"/>
            <a:ext cx="1633680" cy="132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"/>
          <p:cNvPicPr/>
          <p:nvPr/>
        </p:nvPicPr>
        <p:blipFill>
          <a:blip r:embed="rId4"/>
          <a:stretch/>
        </p:blipFill>
        <p:spPr>
          <a:xfrm>
            <a:off x="6705720" y="5029200"/>
            <a:ext cx="2031840" cy="1535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"/>
          <p:cNvPicPr/>
          <p:nvPr/>
        </p:nvPicPr>
        <p:blipFill>
          <a:blip r:embed="rId5"/>
          <a:stretch/>
        </p:blipFill>
        <p:spPr>
          <a:xfrm>
            <a:off x="5029200" y="304920"/>
            <a:ext cx="1114560" cy="181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6095880" y="228600"/>
            <a:ext cx="2462400" cy="1846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"/>
          <p:cNvPicPr/>
          <p:nvPr/>
        </p:nvPicPr>
        <p:blipFill>
          <a:blip r:embed="rId7"/>
          <a:stretch/>
        </p:blipFill>
        <p:spPr>
          <a:xfrm>
            <a:off x="6400800" y="1981080"/>
            <a:ext cx="1471680" cy="175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12"/>
          <p:cNvSpPr txBox="1"/>
          <p:nvPr/>
        </p:nvSpPr>
        <p:spPr>
          <a:xfrm>
            <a:off x="1066680" y="380880"/>
            <a:ext cx="723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cation...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15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4108320" y="137160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6"/>
          <p:cNvSpPr txBox="1"/>
          <p:nvPr/>
        </p:nvSpPr>
        <p:spPr>
          <a:xfrm>
            <a:off x="228600" y="1447920"/>
            <a:ext cx="4495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 Narrow"/>
              </a:rPr>
              <a:t>Just Do It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800600" y="3081240"/>
            <a:ext cx="4343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hap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l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publ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5138280" y="228600"/>
            <a:ext cx="40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hap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Narrow"/>
              </a:rPr>
              <a:t>Getting It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9903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Narrow"/>
              </a:rPr>
              <a:t>Participant Work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Your workbook has two sections: one for today’s class titled ‘Putting it All Together’, and another called ‘In The Field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In the Field has important information for you when it is time to work in a shel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 Narrow"/>
              </a:rPr>
              <a:t>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The Red Cross has updated and changed vocabu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An example is ‘Mass Care’ is now known as ‘Community Service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 Narrow"/>
              </a:rPr>
              <a:t>We will cover this as the changes appear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briefcase"/>
          <p:cNvPicPr/>
          <p:nvPr/>
        </p:nvPicPr>
        <p:blipFill>
          <a:blip r:embed="rId1"/>
          <a:stretch/>
        </p:blipFill>
        <p:spPr>
          <a:xfrm>
            <a:off x="0" y="0"/>
            <a:ext cx="2133720" cy="182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5136120" y="228600"/>
            <a:ext cx="37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cl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137920" y="228600"/>
            <a:ext cx="372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137560" y="228600"/>
            <a:ext cx="36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ith the publ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http://www.museedesmarques.org/images/autres%20signes/logos/logo-nike-swoosh.png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at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137200" y="228600"/>
            <a:ext cx="31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for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" descr="logo-nike-swoosh"/>
          <p:cNvPicPr/>
          <p:nvPr/>
        </p:nvPicPr>
        <p:blipFill>
          <a:blip r:embed="rId1"/>
          <a:srcRect l="0" t="53173" r="36954" b="32739"/>
          <a:stretch/>
        </p:blipFill>
        <p:spPr>
          <a:xfrm>
            <a:off x="0" y="0"/>
            <a:ext cx="5035680" cy="18684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4"/>
          <p:cNvSpPr txBox="1"/>
          <p:nvPr/>
        </p:nvSpPr>
        <p:spPr>
          <a:xfrm>
            <a:off x="1752480" y="2143080"/>
            <a:ext cx="5715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y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ich?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28600" y="228600"/>
            <a:ext cx="868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 Black"/>
              </a:rPr>
              <a:t>It's gonna be a long, long time...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4"/>
          <p:cNvSpPr txBox="1"/>
          <p:nvPr/>
        </p:nvSpPr>
        <p:spPr>
          <a:xfrm>
            <a:off x="457200" y="2209680"/>
            <a:ext cx="213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72 hours</a:t>
            </a:r>
            <a:endParaRPr b="0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10" name="Object 5"/>
          <p:cNvGraphicFramePr/>
          <p:nvPr/>
        </p:nvGraphicFramePr>
        <p:xfrm>
          <a:off x="228600" y="4419720"/>
          <a:ext cx="2133720" cy="20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419720"/>
                    <a:ext cx="213372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7"/>
          <p:cNvSpPr/>
          <p:nvPr/>
        </p:nvSpPr>
        <p:spPr>
          <a:xfrm>
            <a:off x="4800600" y="1981080"/>
            <a:ext cx="434340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 Narrow"/>
              </a:rPr>
              <a:t>Local chapters must be able to run a shelter for 72 hours before transitioning to longer term shelters with help from outside their area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 rot="258000">
            <a:off x="1218960" y="1371600"/>
            <a:ext cx="670536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Frosty"/>
              </a:rPr>
              <a:t>Time for a BREAK!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Frosty"/>
              <a:ea typeface="Frosty"/>
            </a:endParaRPr>
          </a:p>
        </p:txBody>
      </p:sp>
      <p:sp>
        <p:nvSpPr>
          <p:cNvPr id="214" name="WordArt 4"/>
          <p:cNvSpPr txBox="1"/>
          <p:nvPr/>
        </p:nvSpPr>
        <p:spPr>
          <a:xfrm rot="250200">
            <a:off x="2055600" y="3080880"/>
            <a:ext cx="4876560" cy="2151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Frosty"/>
              </a:rPr>
              <a:t>10 minute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Frosty"/>
              <a:ea typeface="Frosty"/>
            </a:endParaRPr>
          </a:p>
        </p:txBody>
      </p:sp>
      <p:pic>
        <p:nvPicPr>
          <p:cNvPr id="215" name="Picture 5" descr="MMj02866680000[1]"/>
          <p:cNvPicPr/>
          <p:nvPr/>
        </p:nvPicPr>
        <p:blipFill>
          <a:blip r:embed="rId1"/>
          <a:stretch/>
        </p:blipFill>
        <p:spPr>
          <a:xfrm>
            <a:off x="6515280" y="4334040"/>
            <a:ext cx="2628720" cy="25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4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7" name="Picture 3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20098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3"/>
          <p:cNvSpPr txBox="1"/>
          <p:nvPr/>
        </p:nvSpPr>
        <p:spPr>
          <a:xfrm>
            <a:off x="990720" y="380880"/>
            <a:ext cx="7315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do we close the shelter?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228600" y="4343400"/>
            <a:ext cx="8610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 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happens next???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Line 5"/>
          <p:cNvSpPr/>
          <p:nvPr/>
        </p:nvSpPr>
        <p:spPr>
          <a:xfrm>
            <a:off x="1981080" y="6248520"/>
            <a:ext cx="5486400" cy="0"/>
          </a:xfrm>
          <a:prstGeom prst="line">
            <a:avLst/>
          </a:prstGeom>
          <a:ln w="187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4" name="Object 0" descr=""/>
            <p:cNvPicPr/>
            <p:nvPr/>
          </p:nvPicPr>
          <p:blipFill>
            <a:blip r:embed="rId1"/>
            <a:stretch/>
          </p:blipFill>
          <p:spPr>
            <a:xfrm>
              <a:off x="4667400" y="0"/>
              <a:ext cx="1647720" cy="10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ject 1" descr=""/>
            <p:cNvPicPr/>
            <p:nvPr/>
          </p:nvPicPr>
          <p:blipFill>
            <a:blip r:embed="rId2"/>
            <a:stretch/>
          </p:blipFill>
          <p:spPr>
            <a:xfrm>
              <a:off x="7015320" y="1006560"/>
              <a:ext cx="1720800" cy="17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ject 2" descr=""/>
            <p:cNvPicPr/>
            <p:nvPr/>
          </p:nvPicPr>
          <p:blipFill>
            <a:blip r:embed="rId3"/>
            <a:stretch/>
          </p:blipFill>
          <p:spPr>
            <a:xfrm>
              <a:off x="7329600" y="3146400"/>
              <a:ext cx="1585800" cy="17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3" descr=""/>
            <p:cNvPicPr/>
            <p:nvPr/>
          </p:nvPicPr>
          <p:blipFill>
            <a:blip r:embed="rId4"/>
            <a:stretch/>
          </p:blipFill>
          <p:spPr>
            <a:xfrm>
              <a:off x="5618160" y="4970520"/>
              <a:ext cx="158436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4" descr=""/>
            <p:cNvPicPr/>
            <p:nvPr/>
          </p:nvPicPr>
          <p:blipFill>
            <a:blip r:embed="rId5"/>
            <a:stretch/>
          </p:blipFill>
          <p:spPr>
            <a:xfrm>
              <a:off x="1004760" y="5095800"/>
              <a:ext cx="195588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Object 5" descr=""/>
            <p:cNvPicPr/>
            <p:nvPr/>
          </p:nvPicPr>
          <p:blipFill>
            <a:blip r:embed="rId6"/>
            <a:stretch/>
          </p:blipFill>
          <p:spPr>
            <a:xfrm>
              <a:off x="146160" y="3019320"/>
              <a:ext cx="1636560" cy="16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9" descr=""/>
            <p:cNvPicPr/>
            <p:nvPr/>
          </p:nvPicPr>
          <p:blipFill>
            <a:blip r:embed="rId7"/>
            <a:stretch/>
          </p:blipFill>
          <p:spPr>
            <a:xfrm>
              <a:off x="0" y="880920"/>
              <a:ext cx="305100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10"/>
            <p:cNvSpPr/>
            <p:nvPr/>
          </p:nvSpPr>
          <p:spPr>
            <a:xfrm>
              <a:off x="5735520" y="1006560"/>
              <a:ext cx="731880" cy="44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 flipH="1">
              <a:off x="6467040" y="4341960"/>
              <a:ext cx="854280" cy="691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6954840" y="2579760"/>
              <a:ext cx="0" cy="942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 flipH="1">
              <a:off x="3416400" y="6291360"/>
              <a:ext cx="195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 flipH="1" flipV="1">
              <a:off x="1463760" y="4403520"/>
              <a:ext cx="1465200" cy="7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 flipV="1">
              <a:off x="976320" y="2201400"/>
              <a:ext cx="0" cy="113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 flipV="1">
              <a:off x="1220760" y="566640"/>
              <a:ext cx="2562120" cy="43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WordArt 17"/>
          <p:cNvSpPr txBox="1"/>
          <p:nvPr/>
        </p:nvSpPr>
        <p:spPr>
          <a:xfrm>
            <a:off x="2438280" y="2133720"/>
            <a:ext cx="403884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The Shelter Cycl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39" name="WordArt 18"/>
          <p:cNvSpPr txBox="1"/>
          <p:nvPr/>
        </p:nvSpPr>
        <p:spPr>
          <a:xfrm rot="20974200">
            <a:off x="380520" y="1294920"/>
            <a:ext cx="8464680" cy="43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624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start all over again!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624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Filename: j0215495.wmf&#13;Keywords: animals, birds, cartoons ...&#13;File Size: 56 KB"/>
          <p:cNvPicPr/>
          <p:nvPr/>
        </p:nvPicPr>
        <p:blipFill>
          <a:blip r:embed="rId1"/>
          <a:stretch/>
        </p:blipFill>
        <p:spPr>
          <a:xfrm>
            <a:off x="0" y="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05740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0" y="51642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209680" y="1676520"/>
            <a:ext cx="693432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Break into 4 grou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Figure out a solution to your probl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Narrow"/>
              </a:rPr>
              <a:t>Be ready to talk about i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Filename: j0215301.wmf&#13;Keywords: animals, cartoons, entertainment ...&#13;File Size: 32 KB"/>
          <p:cNvPicPr/>
          <p:nvPr/>
        </p:nvPicPr>
        <p:blipFill>
          <a:blip r:embed="rId1"/>
          <a:stretch/>
        </p:blipFill>
        <p:spPr>
          <a:xfrm>
            <a:off x="3657600" y="4587840"/>
            <a:ext cx="2270160" cy="2270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228600" y="1522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80"/>
                </a:solidFill>
                <a:latin typeface="Arial"/>
              </a:rPr>
              <a:t>Introduction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00400" y="251460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What do you do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447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Your n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" y="38098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00"/>
                </a:solidFill>
                <a:latin typeface="Arial"/>
              </a:rPr>
              <a:t>One interesting fact about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0" y="1371600"/>
            <a:ext cx="91440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1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don’t have enough members of the shelter team to staff the shelter 24 hours a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2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helter has a small kitchen with a limited food prep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3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 local church would like to start a clothing drive to assist the shelter clients.  They want to donate the clothing to the shel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Problem 4: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 shelter manager wants comfort kits for the shelter resid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Program Files\Microsoft Office\Clipart\standard\stddir1\AN01652_.wmf"/>
          <p:cNvPicPr/>
          <p:nvPr/>
        </p:nvPicPr>
        <p:blipFill>
          <a:blip r:embed="rId1"/>
          <a:stretch/>
        </p:blipFill>
        <p:spPr>
          <a:xfrm>
            <a:off x="0" y="0"/>
            <a:ext cx="2362320" cy="1187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rcRect l="6513" t="20680" r="8711" b="25508"/>
          <a:stretch/>
        </p:blipFill>
        <p:spPr>
          <a:xfrm>
            <a:off x="0" y="1143000"/>
            <a:ext cx="2971800" cy="1447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743200" cy="2315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rcRect l="33341" t="12004" r="33341" b="46003"/>
          <a:stretch/>
        </p:blipFill>
        <p:spPr>
          <a:xfrm>
            <a:off x="3809880" y="304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4"/>
          <a:stretch/>
        </p:blipFill>
        <p:spPr>
          <a:xfrm>
            <a:off x="6572160" y="42861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Filename: j0215495.wmf&#13;Keywords: animals, birds, cartoons ...&#13;File Size: 56 KB"/>
          <p:cNvPicPr/>
          <p:nvPr/>
        </p:nvPicPr>
        <p:blipFill>
          <a:blip r:embed="rId1"/>
          <a:stretch/>
        </p:blipFill>
        <p:spPr>
          <a:xfrm>
            <a:off x="0" y="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AbcPhonicsOne"/>
              </a:rPr>
              <a:t>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981080" y="1143000"/>
            <a:ext cx="69343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 Narrow"/>
              </a:rPr>
              <a:t>Pick a partner, and interview each other using the </a:t>
            </a:r>
            <a:r>
              <a:rPr b="0" i="1" lang="en-US" sz="3600" spc="-1" strike="noStrike">
                <a:solidFill>
                  <a:srgbClr val="6666ff"/>
                </a:solidFill>
                <a:latin typeface="Arial Narrow"/>
              </a:rPr>
              <a:t>Disaster Shelter Registration  (form 5972)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Arial Narrow"/>
              </a:rPr>
              <a:t>In the post-disaster address blank, please list your partner’s position with the American Red Cross or with another agenc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ff"/>
                </a:solidFill>
                <a:latin typeface="Arial Narrow"/>
              </a:rPr>
              <a:t>You will introduce your partner when everybody is fin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0" y="5164200"/>
            <a:ext cx="213372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Technical"/>
              </a:rPr>
              <a:t>Shelter Registration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We use this form for…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Helping workers know how many people are staying in the shelter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Telling workers who is staying in the shelter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1151"/>
              </a:spcBef>
              <a:buClr>
                <a:srgbClr val="ff00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0ff"/>
                </a:solidFill>
                <a:latin typeface="Arial Narrow"/>
              </a:rPr>
              <a:t>Helping determine whether clients may need additional services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Filename: j0215429.wmf&#13;Keywords: animals, cartoons, leisure ...&#13;File Size: 22 KB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0" y="4997520"/>
            <a:ext cx="1471680" cy="186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"/>
          <p:cNvGrpSpPr/>
          <p:nvPr/>
        </p:nvGrpSpPr>
        <p:grpSpPr>
          <a:xfrm>
            <a:off x="304920" y="1371600"/>
            <a:ext cx="8534160" cy="3733920"/>
            <a:chOff x="304920" y="1371600"/>
            <a:chExt cx="8534160" cy="3733920"/>
          </a:xfrm>
        </p:grpSpPr>
        <p:sp>
          <p:nvSpPr>
            <p:cNvPr id="69" name="WordArt 8"/>
            <p:cNvSpPr txBox="1"/>
            <p:nvPr/>
          </p:nvSpPr>
          <p:spPr>
            <a:xfrm>
              <a:off x="304920" y="1371600"/>
              <a:ext cx="8534160" cy="21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6666ff"/>
                      </a:gs>
                    </a:gsLst>
                    <a:lin ang="5400000"/>
                  </a:gradFill>
                  <a:latin typeface="Arial Narrow"/>
                </a:rPr>
                <a:t>Being sensitive to the needs of the clients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 Narrow"/>
                <a:ea typeface="Arial Narrow"/>
              </a:endParaRPr>
            </a:p>
          </p:txBody>
        </p:sp>
        <p:sp>
          <p:nvSpPr>
            <p:cNvPr id="70" name="WordArt 9"/>
            <p:cNvSpPr txBox="1"/>
            <p:nvPr/>
          </p:nvSpPr>
          <p:spPr>
            <a:xfrm>
              <a:off x="380880" y="2362320"/>
              <a:ext cx="8229600" cy="274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66"/>
                      </a:gs>
                      <a:gs pos="100000">
                        <a:srgbClr val="6666ff"/>
                      </a:gs>
                    </a:gsLst>
                    <a:lin ang="5400000"/>
                  </a:gradFill>
                  <a:latin typeface="Arial Narrow"/>
                </a:rPr>
                <a:t>is the first step in providing quality service.</a:t>
              </a:r>
              <a:endPara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6666ff"/>
                    </a:gs>
                  </a:gsLst>
                  <a:lin ang="5400000"/>
                </a:gradFill>
                <a:latin typeface="Arial Narrow"/>
                <a:ea typeface="Arial Narrow"/>
              </a:endParaRPr>
            </a:p>
          </p:txBody>
        </p:sp>
      </p:grpSp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6566040" y="4038480"/>
            <a:ext cx="21384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1981080" y="990720"/>
            <a:ext cx="54104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ideo Segment 1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" name="Picture 5" descr="MCj03121060000[1]"/>
          <p:cNvPicPr/>
          <p:nvPr/>
        </p:nvPicPr>
        <p:blipFill>
          <a:blip r:embed="rId1"/>
          <a:stretch/>
        </p:blipFill>
        <p:spPr>
          <a:xfrm>
            <a:off x="6248520" y="3352680"/>
            <a:ext cx="2754360" cy="3284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Cj03121060000[1]"/>
          <p:cNvPicPr/>
          <p:nvPr/>
        </p:nvPicPr>
        <p:blipFill>
          <a:blip r:embed="rId2"/>
          <a:stretch/>
        </p:blipFill>
        <p:spPr>
          <a:xfrm flipH="1">
            <a:off x="-360" y="0"/>
            <a:ext cx="275436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Red Cross Val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Ensure the shelter is a saf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Respect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Provide services equally to all cli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Enable the clients to make other arrang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Use resources wis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7391520" y="524664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153828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20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1752480" cy="157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24:58Z</dcterms:created>
  <dc:creator>Magi D. Shepley</dc:creator>
  <dc:description/>
  <dc:language>en-US</dc:language>
  <cp:lastModifiedBy>Magi</cp:lastModifiedBy>
  <dcterms:modified xsi:type="dcterms:W3CDTF">2010-09-11T01:38:41Z</dcterms:modified>
  <cp:revision>80</cp:revision>
  <dc:subject/>
  <dc:title>Shelter Simulation ARC 3068-12</dc:title>
</cp:coreProperties>
</file>